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ED5F-9ACE-4F5A-9CFA-A4208A0D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04FE-BAFF-446B-ADEB-10A2AF93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E18-40F3-4BA2-A648-4429362B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8045-3DB8-4C3D-BA72-E43DB4CB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7900-44EB-4458-B256-E559407C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B63-637E-4E4F-AE36-D32DB5A9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D6B-08E1-4DF1-AF58-E4A84FE6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27AD-9B3D-460C-B1B1-AE6B1C3F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8C34-F277-4105-85A9-D2733914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AAD-2D9E-43E5-BED4-97601336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FE64-17C4-4687-95A8-2080EC54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5060-892F-4F38-BF43-94CD22B5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D24A-95D3-4144-A927-F96BD4D8A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4640"/>
            <a:ext cx="2411280" cy="792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916280"/>
            <a:ext cx="2521080" cy="165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ZIONE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di un pa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ne vanno all’ester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ere e cercar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1197000"/>
            <a:ext cx="7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54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189000"/>
            <a:ext cx="2232000" cy="93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vann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ere in un a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e 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95640" y="1052640"/>
            <a:ext cx="1224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54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80000" y="83664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43640" y="189000"/>
            <a:ext cx="158436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59640" y="1052640"/>
            <a:ext cx="1152360" cy="1728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ggire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u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em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rre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268280"/>
            <a:ext cx="2736720" cy="1873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o in un pa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no stranieri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ere e cerc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36000" y="3284640"/>
            <a:ext cx="1152360" cy="1657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rattu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740720" y="4941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20000" y="5516640"/>
            <a:ext cx="1562040" cy="64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/Alb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940000" y="4581360"/>
            <a:ext cx="129564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5661000"/>
            <a:ext cx="1224000" cy="50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221000"/>
            <a:ext cx="1851120" cy="187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 italiani so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 emigranti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ti paesi, 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meno di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, lo so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he og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465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4292640"/>
            <a:ext cx="158436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 princip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555640" y="4869000"/>
            <a:ext cx="360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869000"/>
            <a:ext cx="14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5661000"/>
            <a:ext cx="79236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6453360"/>
            <a:ext cx="1224000" cy="40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. S . 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16640"/>
            <a:ext cx="1223640" cy="71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3141720"/>
            <a:ext cx="1008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19640" y="4797360"/>
            <a:ext cx="7272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8:09:40Z</dcterms:created>
  <dc:creator>studente</dc:creator>
  <dc:description/>
  <dc:language>en-US</dc:language>
  <cp:lastModifiedBy>studente</cp:lastModifiedBy>
  <dcterms:modified xsi:type="dcterms:W3CDTF">2016-12-05T08:58:44Z</dcterms:modified>
  <cp:revision>4</cp:revision>
  <dc:subject/>
  <dc:title>Diapositiva 1</dc:title>
</cp:coreProperties>
</file>